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720360" y="900000"/>
            <a:ext cx="6110280" cy="34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050505"/>
                </a:solidFill>
                <a:latin typeface="Times New Roman"/>
              </a:rPr>
              <a:t>Click to move the slide</a:t>
            </a: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0280" cy="50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168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204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168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75100F-B00E-4C2A-BDF3-9FA1CF66F8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F984FC-E0E8-4BD3-9809-AFEA7A29DD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9640" cy="34419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F02C0B-9E8A-4196-9D3E-0FCE41CBD3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723960" y="900000"/>
            <a:ext cx="6105600" cy="34340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1720" cy="50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036C57-1F68-4A1B-949A-8DE7CF91F8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723960" y="900000"/>
            <a:ext cx="6105600" cy="34340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1720" cy="50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EE8422-AC5E-4537-801B-D0CDB9EFA6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723960" y="900000"/>
            <a:ext cx="6105600" cy="34340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1720" cy="50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8FAB64-5A7D-4D2A-8FA4-F5CC76907E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9640" cy="34419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F9E8A1-2492-45BC-8FA0-AC970AF06E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722160" y="900000"/>
            <a:ext cx="6115320" cy="34401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15C630-B245-4FFA-9648-B46B018D63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722160" y="900000"/>
            <a:ext cx="6115320" cy="34401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1B18E8-ABAB-4275-9032-8921DFF32C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722160" y="900000"/>
            <a:ext cx="6115320" cy="34401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9B0E2B-ED14-400C-BAD6-F3195A9A4D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722160" y="900000"/>
            <a:ext cx="6115320" cy="34401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A0A179-A568-4154-8586-63A5A8E009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722160" y="900000"/>
            <a:ext cx="6115320" cy="34401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FC71B8-C57B-4037-B85F-569D90A7D9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722160" y="900000"/>
            <a:ext cx="6115320" cy="34401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1"/>
          <p:cNvSpPr/>
          <p:nvPr/>
        </p:nvSpPr>
        <p:spPr>
          <a:xfrm>
            <a:off x="4278240" y="1015668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F5A132-7FD9-4937-A6F4-6EC3CE7176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722160" y="900000"/>
            <a:ext cx="6115320" cy="34401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3E32-991D-4715-AB92-7000EF806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8992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619280" y="3080880"/>
            <a:ext cx="808992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07A1-0278-4626-B12C-163F34404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192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7646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B59B-CBB5-47CF-8A60-9A9A2FB7B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54560" y="136836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089840" y="136836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619280" y="308088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54560" y="308088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089840" y="308088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92EC-7D73-472F-827A-5FF257B23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DAEC3-9E59-42EA-8579-1C5D62AA8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619280" y="1368360"/>
            <a:ext cx="808992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F2676-8E21-44A6-9A34-ED8557E72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8992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75742-8941-4FC8-A35C-8DE59DA8B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C01B9-306D-41E4-87E8-F2EE8E491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9F1F6-91D0-49F7-8D94-4E86E8388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619280" y="215640"/>
            <a:ext cx="808992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60F9D-1F91-4A52-922F-009B43660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6192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4B6CE-959A-4E73-B64D-EE93FAA9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619280" y="1368360"/>
            <a:ext cx="808992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6337-C711-4772-A20D-5E8B4B48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7646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86513-CBDE-4759-A1A9-206228B8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619280" y="3080880"/>
            <a:ext cx="808992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BF62A-46BB-4AF4-80EF-83629FFE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8992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619280" y="3080880"/>
            <a:ext cx="808992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3A0B5-CFAD-42A3-944E-BF6D4347D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6192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7646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0B07A-79AB-47EA-802F-B2FB79454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54560" y="136836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089840" y="136836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619280" y="308088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54560" y="308088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089840" y="3080880"/>
            <a:ext cx="260460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7BE95-CDFD-40A3-9E8A-7A36D1E29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8992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5B53-F4D1-4BF8-BD67-BE04C617E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7B7F-C246-43B2-A3BC-93FF6A840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3BD4-DA23-40C9-8E4A-7F911AFB6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19280" y="215640"/>
            <a:ext cx="808992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9F09-1759-4422-9160-46B08A408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6192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CD0E-F7D3-4C48-B16C-24412066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764680" y="308088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43AE-7E81-453E-84CD-9EA8A0C8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764680" y="1368360"/>
            <a:ext cx="394776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619280" y="3080880"/>
            <a:ext cx="8089920" cy="1563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C38F-5D30-4CA0-8F69-8FDEB4F2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5400" cy="567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8992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050505"/>
                </a:solidFill>
                <a:latin typeface="Times New Roman"/>
              </a:rPr>
              <a:t>Click to edit the title text format</a:t>
            </a: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19280" y="1368360"/>
            <a:ext cx="808992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50505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84000" y="5164200"/>
            <a:ext cx="2338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986280" y="5164200"/>
            <a:ext cx="31860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AA9DF4-8CD1-4A9B-91A1-2B96A0510F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225000"/>
            <a:ext cx="9064440" cy="9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4440" cy="328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03280" y="5165280"/>
            <a:ext cx="234144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47720" y="5165280"/>
            <a:ext cx="318924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27360" y="5165280"/>
            <a:ext cx="23418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04B51E-AE0A-4F01-A07C-2DCE03CF26C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4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C24B04-133C-4BA0-97C5-53AD68531E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18920" y="216000"/>
            <a:ext cx="795636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300" spc="-1" strike="noStrike">
                <a:solidFill>
                  <a:srgbClr val="0d1f63"/>
                </a:solidFill>
                <a:latin typeface="Arial Black"/>
              </a:rPr>
              <a:t>Институциональная модель управления деятельностью педагогов по повышению образовательных результатов по английскому языку </a:t>
            </a: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887640" y="3606840"/>
            <a:ext cx="6191280" cy="17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Домнина Т.В.</a:t>
            </a:r>
            <a:endParaRPr b="0" lang="en-US" sz="1200" spc="-1" strike="noStrike">
              <a:solidFill>
                <a:srgbClr val="050505"/>
              </a:solidFill>
              <a:latin typeface="Arial"/>
            </a:endParaRPr>
          </a:p>
          <a:p>
            <a:pPr indent="0" algn="r">
              <a:lnSpc>
                <a:spcPct val="118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Заместитель директора </a:t>
            </a:r>
            <a:endParaRPr b="0" lang="en-US" sz="1200" spc="-1" strike="noStrike">
              <a:solidFill>
                <a:srgbClr val="050505"/>
              </a:solidFill>
              <a:latin typeface="Arial"/>
            </a:endParaRPr>
          </a:p>
          <a:p>
            <a:pPr indent="0" algn="r">
              <a:lnSpc>
                <a:spcPct val="118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по УР, </a:t>
            </a:r>
            <a:endParaRPr b="0" lang="en-US" sz="1200" spc="-1" strike="noStrike">
              <a:solidFill>
                <a:srgbClr val="050505"/>
              </a:solidFill>
              <a:latin typeface="Arial"/>
            </a:endParaRPr>
          </a:p>
          <a:p>
            <a:pPr indent="0" algn="r">
              <a:lnSpc>
                <a:spcPct val="118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учитель английского языка</a:t>
            </a:r>
            <a:endParaRPr b="0" lang="en-US" sz="1200" spc="-1" strike="noStrike">
              <a:solidFill>
                <a:srgbClr val="050505"/>
              </a:solidFill>
              <a:latin typeface="Arial"/>
            </a:endParaRPr>
          </a:p>
          <a:p>
            <a:pPr indent="0" algn="r">
              <a:lnSpc>
                <a:spcPct val="118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высшей квалификационной категории</a:t>
            </a:r>
            <a:endParaRPr b="0" lang="en-US" sz="1200" spc="-1" strike="noStrike">
              <a:solidFill>
                <a:srgbClr val="050505"/>
              </a:solidFill>
              <a:latin typeface="Arial"/>
            </a:endParaRPr>
          </a:p>
          <a:p>
            <a:pPr indent="0" algn="r">
              <a:lnSpc>
                <a:spcPct val="118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МАОУ «Гимназия №10» г. Перми</a:t>
            </a:r>
            <a:endParaRPr b="0" lang="en-US" sz="1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Номер слайда 6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1F3B41-48C6-435C-8850-AB2974705A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136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d73"/>
                </a:solidFill>
                <a:latin typeface="Arial Black"/>
              </a:rPr>
              <a:t>Работа с кадрами,</a:t>
            </a:r>
            <a:br>
              <a:rPr sz="2800"/>
            </a:br>
            <a:r>
              <a:rPr b="0" lang="ru-RU" sz="2800" spc="-1" strike="noStrike">
                <a:solidFill>
                  <a:srgbClr val="003d73"/>
                </a:solidFill>
                <a:latin typeface="Arial Black"/>
              </a:rPr>
              <a:t> родительской общественностью</a:t>
            </a:r>
            <a:endParaRPr b="0" lang="en-US" sz="28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18920" y="1368000"/>
            <a:ext cx="3948120" cy="32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63000"/>
          </a:bodyPr>
          <a:p>
            <a:pPr marL="21600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50505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- планы профессионального развития педагогов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1600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- систематическое повышение квалификации учителей английского языка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1600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- ежегодное участие в международном проекте ПРОФИ-КРАЙ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1600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-  саморазвитие учителей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1600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- профилактика профессионального выгорания педагогов через поощрения и создание ситуации успеха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1600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1600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765400" y="1368000"/>
            <a:ext cx="3948120" cy="32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психологическое сопровождение образовательного процесса;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индивидуальная работа с учащимися и их родителями по выбору базового и углубленного изучения языка;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проведение открытых уроков для родителей, 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индивидуальные консультации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727D20-92D6-4341-B63A-A6B8E52FB0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19280" y="169560"/>
            <a:ext cx="809136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d73"/>
                </a:solidFill>
                <a:latin typeface="Arial Black"/>
              </a:rPr>
              <a:t>Показатели повышения образовательных результатов по английскому языку</a:t>
            </a:r>
            <a:br>
              <a:rPr sz="2400"/>
            </a:br>
            <a:r>
              <a:rPr b="0" lang="ru-RU" sz="2400" spc="-1" strike="noStrike">
                <a:solidFill>
                  <a:srgbClr val="003d73"/>
                </a:solidFill>
                <a:latin typeface="Arial Black"/>
              </a:rPr>
              <a:t> МАОУ «Гимназия №10»</a:t>
            </a:r>
            <a:endParaRPr b="0" lang="en-US" sz="2400" spc="-1" strike="noStrike">
              <a:solidFill>
                <a:srgbClr val="050505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619280" y="1368360"/>
          <a:ext cx="8091360" cy="4218120"/>
        </p:xfrm>
        <a:graphic>
          <a:graphicData uri="http://schemas.openxmlformats.org/drawingml/2006/table">
            <a:tbl>
              <a:tblPr/>
              <a:tblGrid>
                <a:gridCol w="4046400"/>
                <a:gridCol w="4044960"/>
              </a:tblGrid>
              <a:tr h="422280">
                <a:tc gridSpan="2">
                  <a:txBody>
                    <a:bodyPr lIns="90000" rIns="90000" tIns="83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3d73"/>
                          </a:solidFill>
                          <a:latin typeface="Arial"/>
                        </a:rPr>
                        <a:t>Качество образовательных достижений учащихс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4800">
                <a:tc>
                  <a:txBody>
                    <a:bodyPr lIns="90000" rIns="90000" tIns="66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3d73"/>
                          </a:solidFill>
                          <a:latin typeface="Arial"/>
                          <a:ea typeface="Microsoft YaHei"/>
                        </a:rPr>
                        <a:t>Критерий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3d73"/>
                          </a:solidFill>
                          <a:latin typeface="Arial"/>
                          <a:ea typeface="Microsoft YaHei"/>
                        </a:rPr>
                        <a:t>Показатель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42516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Уровень обученности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0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2552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Качество знаний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92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73656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Результаты ОГЭ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Улучшение результатов на 3 балл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3656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Результаты ЕГЭ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Улучшение результатов на 2 балл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1047600"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Результаты мониторинга предметных результатов учащихся 8 классо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6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60 балло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49F7C2-7333-42E2-BEF9-67DD66A4D5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19280" y="169560"/>
            <a:ext cx="809136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d73"/>
                </a:solidFill>
                <a:latin typeface="Arial Black"/>
              </a:rPr>
              <a:t>Показатели повышения образовательных результатов по английскому языку </a:t>
            </a:r>
            <a:br>
              <a:rPr sz="2400"/>
            </a:br>
            <a:r>
              <a:rPr b="0" lang="ru-RU" sz="2400" spc="-1" strike="noStrike">
                <a:solidFill>
                  <a:srgbClr val="003d73"/>
                </a:solidFill>
                <a:latin typeface="Arial Black"/>
              </a:rPr>
              <a:t> МАОУ «Гимназия №10»</a:t>
            </a:r>
            <a:endParaRPr b="0" lang="en-US" sz="2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619280" y="1368000"/>
            <a:ext cx="8091360" cy="32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050505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619280" y="1368360"/>
          <a:ext cx="8094600" cy="4335480"/>
        </p:xfrm>
        <a:graphic>
          <a:graphicData uri="http://schemas.openxmlformats.org/drawingml/2006/table">
            <a:tbl>
              <a:tblPr/>
              <a:tblGrid>
                <a:gridCol w="4048200"/>
                <a:gridCol w="4046400"/>
              </a:tblGrid>
              <a:tr h="368280">
                <a:tc gridSpan="2"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71136"/>
                          </a:solidFill>
                          <a:latin typeface="Arial"/>
                          <a:ea typeface="Microsoft YaHei"/>
                        </a:rPr>
                        <a:t>Качество препода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71136"/>
                          </a:solidFill>
                          <a:latin typeface="Arial"/>
                          <a:ea typeface="Microsoft YaHei"/>
                        </a:rPr>
                        <a:t>Критерий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71136"/>
                          </a:solidFill>
                          <a:latin typeface="Arial"/>
                          <a:ea typeface="Microsoft YaHei"/>
                        </a:rPr>
                        <a:t>Показат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2064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Образование педагог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00% педагогов с высшим педагогическим  образование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87480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Квалификация педагог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Увеличение за три года учителей с высшей квалификационной категори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1920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Знание предме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Улучшение результатов тестирования учител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2064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Методика препода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Владение цифровыми образовательными технология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863640">
                <a:tc>
                  <a:txBody>
                    <a:bodyPr lIns="90000" rIns="90000" tIns="766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766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052BCF-7619-4A87-AC91-D2130DAE8B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928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291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300" spc="-1" strike="noStrike">
                <a:solidFill>
                  <a:srgbClr val="003d73"/>
                </a:solidFill>
                <a:latin typeface="Arial Black"/>
              </a:rPr>
              <a:t>Качество образования</a:t>
            </a:r>
            <a:endParaRPr b="0" lang="en-US" sz="33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49440" y="1368000"/>
            <a:ext cx="8099280" cy="3287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1160" y="2438280"/>
            <a:ext cx="1008864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1440000" y="1728720"/>
            <a:ext cx="2592360" cy="2087640"/>
          </a:xfrm>
          <a:prstGeom prst="wedgeEllipseCallout">
            <a:avLst>
              <a:gd name="adj1" fmla="val -27013"/>
              <a:gd name="adj2" fmla="val 128518"/>
            </a:avLst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еп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довлетвор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тельн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луг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5"/>
          <p:cNvSpPr/>
          <p:nvPr/>
        </p:nvSpPr>
        <p:spPr>
          <a:xfrm>
            <a:off x="4103640" y="1511280"/>
            <a:ext cx="2735280" cy="2519280"/>
          </a:xfrm>
          <a:prstGeom prst="wedgeEllipseCallout">
            <a:avLst>
              <a:gd name="adj1" fmla="val -4523"/>
              <a:gd name="adj2" fmla="val 112800"/>
            </a:avLst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рантия качеств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ординирован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ятельнос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минист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мназ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6"/>
          <p:cNvSpPr/>
          <p:nvPr/>
        </p:nvSpPr>
        <p:spPr>
          <a:xfrm>
            <a:off x="6983280" y="1008000"/>
            <a:ext cx="3168720" cy="2879640"/>
          </a:xfrm>
          <a:prstGeom prst="wedgeEllipseCallout">
            <a:avLst>
              <a:gd name="adj1" fmla="val 6069"/>
              <a:gd name="adj2" fmla="val 79421"/>
            </a:avLst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казател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честв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ы независим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ешн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цен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метн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ов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ГЭ, ЕГЭ, НИКО, ВПР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67B2DF-D5A4-4302-9684-58330D3859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19280" y="129960"/>
            <a:ext cx="809784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3d73"/>
                </a:solidFill>
                <a:latin typeface="Arial Black"/>
              </a:rPr>
              <a:t>Этапы декомпозиции деятельности администрации в целях повышения качества образовательных услуг</a:t>
            </a:r>
            <a:endParaRPr b="0" lang="en-US" sz="26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97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70000"/>
          </a:bodyPr>
          <a:p>
            <a:pPr marL="2401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планирование качества — формирование стратегии деятельности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 управление качеством — методы и виды деятельности организации оперативного характера, используемые для выполнения требований к качеству образования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обеспечение качества — методы и виды деятельности организации, направленные на создание уверенности в том, что требования к качеству будут выполнены: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улучшение качества — виды деятельности, направленные на улучшение способности выполнить требования к качеству образования (результативность, эффективность…);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401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оценка качества — доказательство того, что заданные требования к качеству образования выполнены. 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A6AAD8-A96F-40EE-9AB9-BA4BA8B8FB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93800" y="70920"/>
            <a:ext cx="8097840" cy="17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d73"/>
                </a:solidFill>
                <a:latin typeface="Arial Black"/>
              </a:rPr>
              <a:t>Институциональная модель управления деятельностью педагогов МАОУ «Гимназия №10» по повышению качества образовательных результатов по английскому языку</a:t>
            </a:r>
            <a:endParaRPr b="0" lang="en-US" sz="20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18920" y="1368000"/>
            <a:ext cx="81010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11" name="Oval 3"/>
          <p:cNvSpPr/>
          <p:nvPr/>
        </p:nvSpPr>
        <p:spPr>
          <a:xfrm>
            <a:off x="1224000" y="-360360"/>
            <a:ext cx="71280" cy="144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4608360" y="3095640"/>
            <a:ext cx="3095640" cy="2592360"/>
          </a:xfrm>
          <a:prstGeom prst="diamond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5616720" y="3959280"/>
            <a:ext cx="144360" cy="144360"/>
          </a:xfrm>
          <a:prstGeom prst="diamond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ОЯ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863640" y="3527280"/>
            <a:ext cx="2160720" cy="1800360"/>
          </a:xfrm>
          <a:prstGeom prst="flowChartProcess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РАБОТ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ЯЮЩ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ДЕЙСТВ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1584360" y="1584360"/>
            <a:ext cx="1871640" cy="122400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НИРО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4608360" y="1511280"/>
            <a:ext cx="1656000" cy="13683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Н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7056360" y="1008000"/>
            <a:ext cx="3168720" cy="1079640"/>
          </a:xfrm>
          <a:prstGeom prst="cloudCallout">
            <a:avLst>
              <a:gd name="adj1" fmla="val -20777"/>
              <a:gd name="adj2" fmla="val 35699"/>
            </a:avLst>
          </a:prstGeom>
          <a:solidFill>
            <a:srgbClr val="729fcf"/>
          </a:solidFill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КИ, ПРОБЛЕ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10"/>
          <p:cNvSpPr/>
          <p:nvPr/>
        </p:nvSpPr>
        <p:spPr>
          <a:xfrm>
            <a:off x="8064360" y="3527280"/>
            <a:ext cx="1656000" cy="1944720"/>
          </a:xfrm>
          <a:custGeom>
            <a:avLst/>
            <a:gdLst>
              <a:gd name="textAreaLeft" fmla="*/ 80640 w 1656000"/>
              <a:gd name="textAreaRight" fmla="*/ 1575360 w 1656000"/>
              <a:gd name="textAreaTop" fmla="*/ 80640 h 1944720"/>
              <a:gd name="textAreaBottom" fmla="*/ 1864080 h 1944720"/>
            </a:gdLst>
            <a:ahLst/>
            <a:rect l="textAreaLeft" t="textAreaTop" r="textAreaRight" b="textAreaBottom"/>
            <a:pathLst>
              <a:path w="21600" h="25365">
                <a:moveTo>
                  <a:pt x="3600" y="0"/>
                </a:moveTo>
                <a:arcTo wR="3600" hR="3600" stAng="16200000" swAng="-5400000"/>
                <a:lnTo>
                  <a:pt x="0" y="21765"/>
                </a:lnTo>
                <a:arcTo wR="3600" hR="3600" stAng="10800000" swAng="-5400000"/>
                <a:lnTo>
                  <a:pt x="18000" y="253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29fcf"/>
          </a:solidFill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11" descr=""/>
          <p:cNvPicPr/>
          <p:nvPr/>
        </p:nvPicPr>
        <p:blipFill>
          <a:blip r:embed="rId1"/>
          <a:stretch/>
        </p:blipFill>
        <p:spPr>
          <a:xfrm>
            <a:off x="3154320" y="3925800"/>
            <a:ext cx="1238400" cy="466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"/>
          <p:cNvPicPr/>
          <p:nvPr/>
        </p:nvPicPr>
        <p:blipFill>
          <a:blip r:embed="rId2"/>
          <a:stretch/>
        </p:blipFill>
        <p:spPr>
          <a:xfrm>
            <a:off x="2041560" y="2808360"/>
            <a:ext cx="622440" cy="720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" descr=""/>
          <p:cNvPicPr/>
          <p:nvPr/>
        </p:nvPicPr>
        <p:blipFill>
          <a:blip r:embed="rId3"/>
          <a:stretch/>
        </p:blipFill>
        <p:spPr>
          <a:xfrm>
            <a:off x="3456000" y="1838160"/>
            <a:ext cx="1238400" cy="466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"/>
          <p:cNvPicPr/>
          <p:nvPr/>
        </p:nvPicPr>
        <p:blipFill>
          <a:blip r:embed="rId4"/>
          <a:stretch/>
        </p:blipFill>
        <p:spPr>
          <a:xfrm>
            <a:off x="6121440" y="1511280"/>
            <a:ext cx="338292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Номер слайда 6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A6EF55-9BDC-46B0-8ED4-45432AF558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84360" y="144360"/>
            <a:ext cx="809784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3d73"/>
                </a:solidFill>
                <a:latin typeface="Arial Black"/>
              </a:rPr>
              <a:t>Этапы по управлению качеством обучения английскому языку в гимназии</a:t>
            </a:r>
            <a:endParaRPr b="0" lang="en-US" sz="26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395136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80000"/>
          </a:bodyPr>
          <a:p>
            <a:pPr marL="2743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d73"/>
                </a:solidFill>
                <a:latin typeface="Arial"/>
              </a:rPr>
              <a:t>1. Диагностический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d73"/>
                </a:solidFill>
                <a:latin typeface="Arial"/>
              </a:rPr>
              <a:t>2. Организационный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d73"/>
                </a:solidFill>
                <a:latin typeface="Arial"/>
              </a:rPr>
              <a:t>3. Практический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marL="27432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d73"/>
                </a:solidFill>
                <a:latin typeface="Arial"/>
              </a:rPr>
              <a:t>4. Аналитический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4896000" y="1150920"/>
            <a:ext cx="720720" cy="3889440"/>
          </a:xfrm>
          <a:custGeom>
            <a:avLst/>
            <a:gdLst>
              <a:gd name="textAreaLeft" fmla="*/ 0 w 720720"/>
              <a:gd name="textAreaRight" fmla="*/ 260280 w 720720"/>
              <a:gd name="textAreaTop" fmla="*/ 101160 h 3889440"/>
              <a:gd name="textAreaBottom" fmla="*/ 3788280 h 388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5985000" y="1440000"/>
            <a:ext cx="395100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marL="343080" indent="-335160" algn="ctr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342"/>
                </a:solidFill>
                <a:latin typeface="Arial"/>
              </a:rPr>
              <a:t>Работа с педагогическим коллективом, учащимися, родительской общественность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F24D6C-C10B-4D50-9C16-AAB71289C1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784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3d73"/>
                </a:solidFill>
                <a:latin typeface="Arial Black"/>
              </a:rPr>
              <a:t>Диагностический этап деятельности гимназии по повышению образовательных результатов по английскому языку</a:t>
            </a:r>
            <a:endParaRPr b="0" lang="en-US" sz="22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97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84000"/>
          </a:bodyPr>
          <a:p>
            <a:pPr marL="28800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Стартовый педагогический совет по результатам внешней независимой оценки качества образования (ОГЭ, ЕГЭ, НИКО, ВПР) - выход на «проблемные» зоны.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8800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Входная диагностика — выход на «проблемные» зоны.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8800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Создание проблемной группы по актуальным проблемам (Например: «Разработка разноуровневых заданий на уроках английского языка»)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8800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- Выбор методической темы каждым педагогом на учебный год в соответсвии с выявленными проблемами (Например: «Цифровые образовательные ресурсы в обучении грамматике»)</a:t>
            </a: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8800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  <a:p>
            <a:pPr marL="28800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ABEBDA-24C9-40EE-9CAF-5D785E2C61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784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3d73"/>
                </a:solidFill>
                <a:latin typeface="Arial Black"/>
              </a:rPr>
              <a:t>Организационный этап деятельности гимназии по повышению образовательных результатов по английскому языку</a:t>
            </a:r>
            <a:endParaRPr b="0" lang="en-US" sz="22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97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050505"/>
              </a:solidFill>
              <a:latin typeface="Arial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1871640" y="1368360"/>
            <a:ext cx="1944720" cy="194472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4"/>
          <p:cNvSpPr/>
          <p:nvPr/>
        </p:nvSpPr>
        <p:spPr>
          <a:xfrm>
            <a:off x="4680000" y="3456000"/>
            <a:ext cx="2076480" cy="20257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кадр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7564320" y="4176720"/>
            <a:ext cx="2152800" cy="13622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еуроч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ятель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1800360" y="3365640"/>
            <a:ext cx="2447640" cy="210636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онн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иче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7124760" y="1420920"/>
            <a:ext cx="2592360" cy="196380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родительск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ественность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1871640" y="1511280"/>
            <a:ext cx="216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рматив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ов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                  материаль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иче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з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9" descr=""/>
          <p:cNvPicPr/>
          <p:nvPr/>
        </p:nvPicPr>
        <p:blipFill>
          <a:blip r:embed="rId6"/>
          <a:stretch/>
        </p:blipFill>
        <p:spPr>
          <a:xfrm>
            <a:off x="3672000" y="1413000"/>
            <a:ext cx="3666960" cy="26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Номер слайда 5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82AAE2-D687-452E-8D8D-4BE0F53356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784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d73"/>
                </a:solidFill>
                <a:latin typeface="Arial Black"/>
              </a:rPr>
              <a:t>Нормативно-правовая база, материально-техническое обеспечение</a:t>
            </a:r>
            <a:endParaRPr b="0" lang="en-US" sz="2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619280" y="1368360"/>
            <a:ext cx="8097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8000"/>
          </a:bodyPr>
          <a:p>
            <a:pPr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1. Нормативно-правовая база (изменение в локальном акте «Положение о текущей и промежуточной аттестации)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50505"/>
                </a:solidFill>
                <a:latin typeface="Arial"/>
              </a:rPr>
              <a:t>2. Материально-техническая база (100% кабинетов оснащены компьютерами, проекторами, в наличие смарт-доски, лингафонный кабинет)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Номер слайда 6"/>
          <p:cNvSpPr/>
          <p:nvPr/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05E417-5B98-49CC-9D20-A97AA52FD9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19280" y="215640"/>
            <a:ext cx="809136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d73"/>
                </a:solidFill>
                <a:latin typeface="Arial Black"/>
              </a:rPr>
              <a:t>Организационно-методическая работа, внеурочная деятельность </a:t>
            </a:r>
            <a:endParaRPr b="0" lang="en-US" sz="2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618920" y="1368000"/>
            <a:ext cx="3948120" cy="32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89000"/>
          </a:bodyPr>
          <a:p>
            <a:pPr marL="30528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50505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50505"/>
              </a:solidFill>
              <a:latin typeface="Arial"/>
            </a:endParaRPr>
          </a:p>
          <a:p>
            <a:pPr marL="30528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50505"/>
                </a:solidFill>
                <a:latin typeface="Times New Roman"/>
              </a:rPr>
              <a:t>-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коррекция содержания тематического планирования;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0528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мониторинговые карты учащихся по видам деятельности, по подготовке к ГИА;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0528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системный анализ контрольных работ;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0528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разработка индивидуальных карт по подготовке к ГИА;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0528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проведение  внутренних мониторингов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  <a:p>
            <a:pPr marL="305280" indent="0" algn="just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учительский «аудит»</a:t>
            </a:r>
            <a:endParaRPr b="0" lang="en-US" sz="18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5765760" y="1368360"/>
            <a:ext cx="3949920" cy="32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5765760" y="1368360"/>
            <a:ext cx="3948120" cy="32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marL="343080" indent="-341640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ежегодные декады английского язык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школьный конкурс песен о любви на английском язык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Конкурс Спикеров «</a:t>
            </a:r>
            <a:r>
              <a:rPr b="0" lang="en-US" sz="1800" spc="-1" strike="noStrike">
                <a:solidFill>
                  <a:srgbClr val="050505"/>
                </a:solidFill>
                <a:latin typeface="Arial"/>
              </a:rPr>
              <a:t>We discover the world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олимпиадное движени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5"/>
                </a:solidFill>
                <a:latin typeface="Arial"/>
              </a:rPr>
              <a:t>- система факультатив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02T11:40:59Z</dcterms:created>
  <dc:creator>User</dc:creator>
  <dc:description/>
  <dc:language>en-US</dc:language>
  <cp:lastModifiedBy>1</cp:lastModifiedBy>
  <dcterms:modified xsi:type="dcterms:W3CDTF">2019-02-07T03:20:46Z</dcterms:modified>
  <cp:revision>8</cp:revision>
  <dc:subject/>
  <dc:title>DNA</dc:title>
</cp:coreProperties>
</file>